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6895-97DA-40C0-AF25-FA3CEC85D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3797-3A06-48B1-90F0-42233358D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 is the number one cause of disability in adult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in tissue in the affected area is starved for bloo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blood have that is essential for the brain’s func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6A18-7253-4043-9C67-DEF996FB7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violent back and forth motion that could cause a concus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8FC5-A331-41D1-8181-4B9E510BF2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onsciousness may last from a few seconds to several minu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esia may last 12 to 24 hou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D3A4-781D-437F-A26A-E49C63D44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fully recover from a concussion with no lasting dam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ommon reasons why concussions occur?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practical ways people could prevent a concussion in normal circumstanc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DDF6-2526-4323-9610-364EEACC4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contusion occur? (Caused by a blow to the head or hitting a hard surface, such as in an automobile accid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isting of the two brain hemispheres when colliding with cranial bones may cause damage deep within the brai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B7A0-05A7-4D47-8ECB-E4E8F1D74E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ermanent damage to the brain could occur from a contusion caused by subdural and epidural hematomas immediate medical attention is needed with this condi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DBA1-6E4E-46FC-B013-A8186797DE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ust vital signs be monitored?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neurological aspects would be particularly important to assess during the neurological exa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D034-44B6-49CA-A2BA-5AE45E856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nditions occur when the spinal cord is injur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the injury on the spinal cord usually determines the extent of the paralysi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FCCE-2A66-4B9A-AA36-9C078D1E6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damage to the spinal cord lead to some degree of permanent disability? (nerve pathways control many bodily functions and ac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cord damage may be only tempora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1303-6F01-4002-9117-11A4B086B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etermines the result of an injury? (The site of the injury, the type of trauma to the spinal cord, and severity of trauma usually determine whether the person will be paraplegic or quadriplegi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1865-4BFD-46B1-8977-7F407CC3AA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assessments and scans are needed to determine the extent of the injuri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rts of the body could a typical paraplegic have some measure of control ov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rts of the body could a typical quadriplegic have some measure of control ov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D47F-61FD-49CB-99FA-41F75F79C6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reas of the brain control different func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vary depending on which area of the brain is affected by the strok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worst result of a stroke? (coma or deat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3B8D-D168-468A-8B57-AF31116B80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hould treatment begin for a patient rendered a paraplegic or quadriplegic? (The earlier treatment begins, the better the prognosis. Partial or total severing of the spinal cord results in permanent, irreversible damage and paralysis below the point of inju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78C3-55CD-404C-870B-F347FFE999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rubbing on the disk results in inflammation and gradual destruction of the d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lammation eventually involves the spinal nerve roots and causes scarr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8757-23CF-4A74-BCBC-5EA4462A59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egenerative disk disease differ from injury to the spinal cord through trauma?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there be a loss of motor function in the leg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806A-4CA2-482D-91F3-269686F230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more than one imaging technique be used to diagnosis a disk disorder?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E12E-E143-4812-AA40-F5A89332D1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anscutaneous electrical nerve stimulation (TENS) un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B4F7-8B10-45F3-A0A0-E42514C6D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herniated disk called? (also known as a ruptured or slipped d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intervertebral dis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9BAC-0D76-4EC9-88EF-0EA440A81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in both diagrams the bulging disk (B) and herniated disk (C) are pressing against the spinal cord, which results in p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herniated disk differ from the bulging disk? (It has pushed out of the annulu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0628-020E-4961-8EE2-A3BB310E0F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ciatic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erniated disks occur in the lower bac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cause the pain to radiate to other parts of the body?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9DBF-2366-4C4B-862A-C178050621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herniated disks diagnosed? (Physical examination along with CT and MRI scans may be used in diagnos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3521-63CD-497A-BF0D-0FD22E8EF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erniated disks resolve with res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rgical intervention is necessary, the outcome is usually favorabl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stitutes good body mechanics when lifting a heavy objec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0429-17B2-45FF-B355-60B008501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strokes occur? can also result from systemic diseases such as diabetes and syphili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ifestyle and hereditary issues can also contribute to being at risk for a stroke? </a:t>
            </a:r>
            <a:endParaRPr b="0" lang="en-US" sz="1200" spc="-1" strike="noStrike">
              <a:solidFill>
                <a:srgbClr val="000000"/>
              </a:solidFill>
              <a:latin typeface="Times New Roman"/>
            </a:endParaRPr>
          </a:p>
          <a:p>
            <a:pPr marL="11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1060-3987-44F1-84A2-CE413F0377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stenosis, a narrowing of the spinal canal, is often termed sciatica because of the compression on the spinal cord and spinal cord roo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2C11-1E24-48F1-9DDB-C85D1F4AB2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location of the vertebrae and the associated pain in the sciatic nerv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in then radiates through the buttocks and leg.</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on name for the coccyx? (tailb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A29A-DB43-479A-9807-BE29C0ED5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tributes to spinal stenosis? (Trauma to the sciatic nerve may result from a fall, poor body mechanics, or other injur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ing process and arthritis can cause a narrowing of the spinal can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4E8E-12A8-4489-9BDF-002E32A758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examination and a series of images may be taken (radiographic, MRI, CT) to diagnose the condi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re” muscles, and why are they importan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urpose do narcotics serve in the treatment of pai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EA7E-CA05-4F6A-A392-EF4F7D6E1F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may be chronic or acute and are located in the frontal, temporal (side), or occipital (back) regions of the hea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are many environmental causes of headaches, there are only two physiologic caus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environmental factors that might also cause headache?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AE87-DC5C-4B60-92DE-D7D82907D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issues themselves never ache because they do not contain sensory nerv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are also called cephalalgi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what circumstances do you get headach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4443-CC28-4C07-BB2D-34833A09B0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xamination and imaging scans are often needed to diagnose the cause of the headach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eadaches subside in a reasonable amount of tim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reduction and relaxation techniques may also help.</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ays to reduce stress and possibly the frequency of headach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6063-C442-4DF0-B9E2-0132679953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tack varies by person but may be preceded by a period of abnormal fatigue or irrit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ceptibility to migraines tends to run in families, leading to a strong suspicion of inherited or genetic links to this disord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foods (aged cheese, chocolate, and red wine) can be linked to an attack.</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8877-2349-4A3B-8B95-74B8C8A7E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may begin in adolescence or early adulthood and become less frequent with 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ines affect women twice as often as 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women be more susceptible to migraines than me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0122-C430-4CBA-AC8D-1B6AD00B9D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CT scan, or MRI may be used to diagnose and rule out any organic condi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is good when drug therapy and rest are appli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sychosocial factors might “trigger” an attac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50E9-94CD-4E0D-83D2-D1273FC46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medical treatment is to restore lost functions and treat underlying disorde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health care professionals might be on the team of treating a patient with a strok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rmanent disability may remain after the initial treatment and recover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36EE-1D28-4BDA-AD4C-FEDD929502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lepsy takes many forms – there are more than 30 types of seizures know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for a person to have more than one typ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eizu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E50E-DE39-41C5-B6BB-F3C6FC682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seizures do not involve the entire brain but arise from a localized area in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loss of consciousness with partial seizur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719E-2963-4D97-8EA4-E94804E583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eizures can cause a diffuse electrical abnormality in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ic-clonic seizures may begin with a loud cry, followed by falling to the ground, and loss of consciousn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you do if you encountered someone who was having a seizure?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zures usually subside in 1 to 2 minu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epilepticus occurs when one seizure follows another with no recovery of consciousness between attacks. This is a medical emergenc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1F29-D864-43B9-AFF4-47E3A8B0CE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eizures imply epileps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of epilepsy is based on the location of abnormal activity and its dur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MRI, and CT scan may be used in diagnosi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8F26-A628-433D-8505-07BF5B0680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therapy is often sufficient to control seizure activit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epilepticus is a life-threatening event and needs immediate medical attentio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D0F3-9C6C-4C39-87EA-C0D160F949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n’t anything be put into the mouth of a person who is having a seizur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be done if a seizure lasts more than five minutes, or the person is having a difficult time recovering? (Call for medical hel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95A6-8470-4DC4-B209-94331D2F1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amine is a neurotransmitter manufactured in the midbrai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DBE0-A184-451A-B64B-A570FC80A2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onset is 60 years of 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licts more men than wo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is made after careful neurologic examin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dopamine levels may be noted in the urin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24D9-7817-41A7-A371-8A5B0EFB9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dvantages might physical therapy provide?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important for family members to participate in physical therapy? Why or why no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6C5D-610F-4816-A1F0-0075AACD44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rebral CT scan can show brain atroph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analysis can detect a defective gen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progressive chorea and dementia are risk facto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finitive diagnoses do not ex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9F66-DE7A-4123-B577-52C17F2A7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isk factors does the patient have no control ov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encourage someone at risk for a stroke to begin making lifestyle chang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5F32-D28E-41C8-8EB9-826C861280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arms and face are first affected by lack of muscle control.</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mptoms may be subtl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set of symptoms typically begins in early middle ag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A808-A80C-4533-9068-77B94282C1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family be told about the progressive nature of Huntington Chorea at the time of diagnosi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a patient with HC, how much would you want to know?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610B-44A3-44A2-8517-3DFAD96849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e of ALS is not known, but inherited traits are suspect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as Lou Gehrig?</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8F09-F60F-48C6-9499-707716A8DA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ing of the mind is not affect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s slightly more men than wo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set usually occurs after the age of 50 to 60 year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957E-EE28-4229-8486-66EE0D1FF0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usually occurs within six to 10 yea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pulmonary function ceases?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9208-F8B5-4A4F-A783-6A426B6F5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frightening, it is usually a benign ev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esia may last from one to 12 hours and cover the entire memory for that duration of time, resulting in total loss of recent memory.</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6351-8FCB-42B2-922A-962F39B3F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loss may include the preceding three to five yea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may be able to perform routine tasks with out a problem.</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 signs are typically norma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4B40-4834-4E82-9BBC-82C31F2359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will probably never regain memory of the events that occurred during the episode or the hours or days that immediately preceded the episo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stress “trigger” such a loss of memory?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6E9F-A672-47F2-96E6-2F0B7E621D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24F4-BE4A-4DFB-9391-78CEFEFC3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set is sudden and progress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4317-CA2B-442B-8A55-B0AC0E9AD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IAs referred to as “little strokes” or “mini strokes”? (Because they resemble a stroke caused by an embolis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25F1-4792-421A-AC0C-65CCE6366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alcohol usage is considered “safe” when it comes to general health guidelin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uritis is common with diabe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abete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5B64-2597-43EF-B9BE-ACF57F0A87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rophied muscles show diminished deep tendon reflexes and tendern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eg and/or foot are affected, foot drop may be experienced as a symptom. What is foot drop?</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1089-33FA-4FD2-84FF-CF04F07102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underlying causes may provide substantial relief of symptom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proper nutrition help this condition?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1A8D-08D1-4124-B048-D9A38D35F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cruciating pain that typically results from this condition can be debilitating.</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CB2F-6953-4C1A-9157-F8693FFCED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shows the trigeminal nerve and its branche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verage of the nerve and how large an area of the face may be affect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204E-4305-49E7-AE41-CAFF13359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in is always unilateral and does not cross the midline of the fac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daily activities might “trigger” pain from this condition?</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D4C7-CC83-47A7-B904-0C76D48B89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sodes may last from months to years and then subsi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ction of a sinus or tooth must first be ruled out during the diagnosi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CBCD-6CDD-43C4-93C7-4883C159D9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venth cranial nerve is responsible for this condi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AB77-D42D-4A9E-820C-34AAAAFE6C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order is often first noticed in the morning, having developed overnigh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 is usually unilateral.</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ansient or perman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between the ages of 20 and 60 years of age in men and women alik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9B7C-2A49-49E3-990B-EEEBBBEEA2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recovery is possible if disease is treated earl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very is often spontaneous, especially in younger individu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F171-053E-473E-A26A-10737ED310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IAs cause unconsciousness? (No, they last a few seconds to a few hours and then subsi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As are signals of an impending strok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2EBC-93B0-40D6-ABDA-8A7CD0B6C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disorder would be most difficult to live with?</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DE9E-3DE4-4B8F-9481-A2F522B114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ection can originate directly from the brain, spinal cord, or sinuses.</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CACC-75E7-4AD2-814A-0A1ADEF8B9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wsiness can progress to com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zure may be pres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symptoms may not appear severe enough to warrant treatm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symptoms are not typically present with influenza?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A637-A01A-4D4C-911A-5ABC3D160E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presence of elevated levels of white blood cells, protein, and glucose, indicate the body is attempting to do?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D141-5B31-496C-8BC3-3DDEC8A99A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l forms of meningitis respond well to antibiotics; viral strains usually run their course and patient recove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ommon preventative practices to avoid infections, including meningiti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A358-3976-4751-BA02-5598F17449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West Nile encephalitis contracted?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F178-3FB1-4AA2-9615-6B7BE2B640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may have a sudden or gradual onset.</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24DF-CD42-42D6-ACA4-EB0DB4EC1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a diagnosis determin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cerebral fluid obtain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nd cerebrospinal fluid will reveal the presence of the viru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EG will also show abnormalitie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5628-753C-4790-9B01-4717B19717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iral forms run their cours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ual damage to the brain may resul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easures could be taken to avoid contracting encephalitis through mosquito contac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7B13-1356-4A7A-8105-96BC87E43A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dition destroys or removes the myelin sheath that surrounds the ner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2530-ECB7-4340-8BAA-55682A5AF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a TIA? (The most immediate cause is a piece of plaque that breaks away from an artery or heart valve and travels to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known as an embolism or moving clo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laque and how does it develop?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4A32-0A8A-41BF-B9C2-2A1A8CA140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pain, weakness, and paralysis move quickly up the body in 24 to 72 hour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D99B-DF90-4F85-9ED1-0F75E9222E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is confirmed by finding elevated protein in the cerebrospinal fluid, which peaks in four to six weeks after onse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varies but recovery is usually complet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EAB7-B393-4C54-A0AC-16DEF66919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econdary sources of the infection could include sinusitis and dental abscess.</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8BB4-B336-4952-BAC4-E853C1149E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diagnosis ma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infection, especially of the sinuses, or an injury to the central nervous system along with stated symptoms may indicate the presence of an absc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and CT scans are used to confirm diagnosis.</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F0C3-A532-4FCB-881B-1E6E4908A3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varies depending on the location, size, and cause, of the absc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tracranial pressure cannot be controlled, death may resul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bar puncture is not an option because intracranial pressure may cause brain stem to herniate, which may lead to death.</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0B5F-A918-44A5-B54F-79C4925D6D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is the incubation period? (seven to 21 day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e well-known researcher who developed a polio vaccine years ago? (Jonas Sal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an effective vaccine, polio is very rare in the Western world.</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7FF3-E401-48EE-993B-59507D4867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myelitis that involves the muscles supplied by spinal nerves is termed </a:t>
            </a:r>
            <a:r>
              <a:rPr b="0" i="1" lang="en-US" sz="1200" spc="-1" strike="noStrike">
                <a:solidFill>
                  <a:srgbClr val="000000"/>
                </a:solidFill>
                <a:latin typeface="Times New Roman"/>
              </a:rPr>
              <a:t>spina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myelitis that involves the muscles supplied by cranial nerves is termed </a:t>
            </a:r>
            <a:r>
              <a:rPr b="0" i="1" lang="en-US" sz="1200" spc="-1" strike="noStrike">
                <a:solidFill>
                  <a:srgbClr val="000000"/>
                </a:solidFill>
                <a:latin typeface="Times New Roman"/>
              </a:rPr>
              <a:t>bulba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virus is transmitted from person to person from airborne saliva particle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polio vaccine still administered to children if the disease is under control?</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8331-7B34-431E-B2B2-85B42C045E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olio vaccines currently licensed in the U.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is fair and depends on which muscles are involv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for postpolio syndrome is goo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tell parents who are reluctant to have their child exposed to an almost nonexistent disease? </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F805-8435-44BE-BCF9-7AE5DE3B0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tumors may have originated from the lung, liver, kidney, or sk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mors are named according to the tissues from which they originat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hildren under 15, brain tumors are the most common solid malignanc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umors are more common in industrialized countries and among white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D813-F500-43B1-A8BF-1115A4D49D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 of brain tissue causes progressive neurologic deficits, expansion of the brain, and increased intracranial pressur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of early tumors are somewhat vagu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recommend to help someone cope with the news of having a brain tum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9593-8428-40C0-A7F3-F6BE4028C4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likely prognosis for a patient who has had a TIA? (Prognosis varies according to the extent and duration of the episodes.) Most attacks have minimal effect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reduction and lifestyle changes should be implemented as a means of reducing r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ys could a person reduce the stress in his or her life?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68AA-F16C-4902-AE15-E178F7DAA2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of brain tumors is complicated because benign and malignant tumors have similar symptom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surgical procedure on a tumor located deeper in the brain more dangerous than one closer to the surfac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58A5-7A4C-411B-B2AD-EF80541CD5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radiotherapy attempt to do to tumor cell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hemotherapy work to destroy cancer cells?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DAD1-E984-4E0F-BF9D-43AE69CC33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secondary metastasis will undergo these treatments to improve the quality of life and reduce the likelihood of death by neurologic caus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quality of life issu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complications of surgery, radiation, and chemotherapy, may cause problems later, especially for children.</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90B4-E407-476C-846D-6038E6410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community resources would help an individual with a brain tumor and his or her fami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5"/>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scular Disorders:</a:t>
            </a:r>
            <a:br>
              <a:rPr sz="3200"/>
            </a:br>
            <a:r>
              <a:rPr b="0" lang="en-US" sz="3200" spc="-1" strike="noStrike">
                <a:solidFill>
                  <a:srgbClr val="ffff00"/>
                </a:solidFill>
                <a:latin typeface="Arial"/>
              </a:rPr>
              <a:t>Cerebrovascular Accident (Stroke)</a:t>
            </a:r>
            <a:endParaRPr b="0" lang="en-US" sz="3200" spc="-1" strike="noStrike">
              <a:solidFill>
                <a:srgbClr val="ffff00"/>
              </a:solidFill>
              <a:latin typeface="Arial"/>
            </a:endParaRPr>
          </a:p>
        </p:txBody>
      </p:sp>
      <p:sp>
        <p:nvSpPr>
          <p:cNvPr id="8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rebrovascular accident (CVA) occurs when the brain is damaged by a sudden disruption in the flow of blood to a part of the brain or by bleeding inside the he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a:t>
            </a:r>
            <a:endParaRPr b="0" lang="en-US" sz="3600" spc="-1" strike="noStrike">
              <a:solidFill>
                <a:srgbClr val="ffff00"/>
              </a:solidFill>
              <a:latin typeface="Arial"/>
            </a:endParaRPr>
          </a:p>
        </p:txBody>
      </p:sp>
      <p:sp>
        <p:nvSpPr>
          <p:cNvPr id="10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is bruising of the cerebral tissue that is caused by violent back and forth movement of the head.</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nt force trauma may also cause this condition.</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causes a disruption of normal electrical activity in the brain, but the brain itself usually is not inju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loss of consciousness:</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followed by a period of amnesi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respirat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puls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tone flacid</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gaining consciousness, patient might experience:</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ach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vomiting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rred vision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 to light (photophobia)</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urolog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ation for behavioral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usion involves bruising the tissues along or just beneath the surface of the br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usion is more serious than a concu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 according to site and extent of injury and persist more than 24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from temporary consciousness to com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nsciou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e headach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ght paralysis or weakness affecting one side of the body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owsiness, lethargy, combative mo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 neurolog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so vital signs can be moni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614240"/>
            <a:ext cx="7772400" cy="43052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plegia is the loss of nerve function below the waist and results in paralysis of the lower trunk and leg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driplegia is the loss of nerve function below the cervical region, resulting in paralysis of arms, hands, trunk, and legs.</a:t>
            </a: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pinal Cord Injuries: </a:t>
            </a:r>
            <a:br>
              <a:rPr sz="3200"/>
            </a:br>
            <a:r>
              <a:rPr b="0" lang="en-US" sz="3200" spc="-1" strike="noStrike">
                <a:solidFill>
                  <a:srgbClr val="ffff00"/>
                </a:solidFill>
                <a:latin typeface="Arial"/>
              </a:rPr>
              <a:t>Paraplegia and Quadriplegia</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plegia: </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motor and sensory control in lower extremities and trunk</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bladder, bowel, and sexual function</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riplegia: </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motor and sensory control in upper and lower body</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blood pressure (hypotens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ody temperature (hyperthermi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 heart rate (bradycardia)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iratory probl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ssion of vertebra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to the thoracic and lumbar regions of the spine (T1 and below) usually results in paraplegia.</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flexion of neck</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to the cervical vertebrae (C5 or above) can result in quadriplegia.</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extension of spin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occurring above C3 is usually fa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assessment of neurologic function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al radiographic film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sca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8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ymptoms include sudd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or total loss of the ability to articulate ideas or comprehend spoken or written language (aphas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hemiparesis), numbness, or paralysis (hemiplegia), confusion, or impaired consciou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r blurring of vision, double vision (diplop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zziness, loss of balance or coordinat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goal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ation of normal alignment and stability of spin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mpression of the spinal cord, nerves, and vertebra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rehabilitation</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rtebral disks are located between the vertebra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generation is usually the result of constant wearing on the disk through misalignment.</a:t>
            </a:r>
            <a:endParaRPr b="0" lang="en-US" sz="2800" spc="-1" strike="noStrike">
              <a:solidFill>
                <a:srgbClr val="ffffff"/>
              </a:solidFill>
              <a:latin typeface="Arial"/>
            </a:endParaRPr>
          </a:p>
        </p:txBody>
      </p:sp>
      <p:sp>
        <p:nvSpPr>
          <p:cNvPr id="12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vertebral Disk Disorders:</a:t>
            </a:r>
            <a:br>
              <a:rPr sz="3200"/>
            </a:br>
            <a:r>
              <a:rPr b="0" lang="en-US" sz="3200" spc="-1" strike="noStrike">
                <a:solidFill>
                  <a:srgbClr val="ffff00"/>
                </a:solidFill>
                <a:latin typeface="Arial"/>
              </a:rPr>
              <a:t>Degenerative Disk Diseas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that radiates down the nerve pa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clude loss of motor function in the leg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ness and associated weakness of the le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maging:</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I sca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elogram with contras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CT sc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ing back and lower extremit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cing back</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NSA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might be necessary (spinal fusion, freeing trapped nerv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cases: electrical stimulation of the skin to relieve pain or a continuous flow of morphin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a:t>
            </a:r>
            <a:endParaRPr b="0" lang="en-US" sz="36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rniated disk is a rupture of the nucleus pulposus, an elastic pulpy mass lying in the center of each intervertebral cartilage, which is housed in a circular wall structure (annulu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ucleus pulposus extends into the inner annulus only, it is considered a bulging disk.</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ucleus pulposus extends through the inner and outer annulus, it is considered a herniated disk.</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04920"/>
            <a:ext cx="3962520" cy="312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35" name="Picture 7" descr="W0256-13-15"/>
          <p:cNvPicPr/>
          <p:nvPr/>
        </p:nvPicPr>
        <p:blipFill>
          <a:blip r:embed="rId1"/>
          <a:stretch/>
        </p:blipFill>
        <p:spPr>
          <a:xfrm>
            <a:off x="4876920" y="304920"/>
            <a:ext cx="2436840" cy="58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s severe back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may radiate from back to buttocks, thigh, and le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disability can occur if disk pinches or pushes against spinal ner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impac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per body mechanics when lif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pos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 (can cause disk to degene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onservativ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for 24 to 48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and cold pack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le relax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brace</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advanced)</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excision of the herniated disk or related procedures to relieve the pressure against the spinal co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8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VA is usually a result of one of three types of vascular disord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clot (cerebral thrombo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hemorrhage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embolis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y blockage (atherosclerosis) or hypertension (high blood pressur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l stenosis is brought about by trauma, degeneration, or rupture of the nucleus pulposus within intervertebral disks L4 through S1 (lower back).</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generation or rupture exerts pressure directly on the sciatic nerve, sending impulses down into the leg.</a:t>
            </a:r>
            <a:endParaRPr b="0" lang="en-US" sz="2800" spc="-1" strike="noStrike">
              <a:solidFill>
                <a:srgbClr val="ffffff"/>
              </a:solidFill>
              <a:latin typeface="Arial"/>
            </a:endParaRPr>
          </a:p>
        </p:txBody>
      </p:sp>
      <p:sp>
        <p:nvSpPr>
          <p:cNvPr id="14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W0256-13-16"/>
          <p:cNvPicPr/>
          <p:nvPr/>
        </p:nvPicPr>
        <p:blipFill>
          <a:blip r:embed="rId1"/>
          <a:stretch/>
        </p:blipFill>
        <p:spPr>
          <a:xfrm>
            <a:off x="4622760" y="762120"/>
            <a:ext cx="4368960" cy="5181480"/>
          </a:xfrm>
          <a:prstGeom prst="rect">
            <a:avLst/>
          </a:prstGeom>
          <a:ln w="0">
            <a:noFill/>
          </a:ln>
        </p:spPr>
      </p:pic>
      <p:sp>
        <p:nvSpPr>
          <p:cNvPr id="145" name="PlaceHolder 1"/>
          <p:cNvSpPr>
            <a:spLocks noGrp="1"/>
          </p:cNvSpPr>
          <p:nvPr>
            <p:ph type="title"/>
          </p:nvPr>
        </p:nvSpPr>
        <p:spPr>
          <a:xfrm>
            <a:off x="914040" y="609480"/>
            <a:ext cx="380988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 radiating pain from the sciatic nerve down the leg and to the foo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in lower back, buttocks, thighs, or calv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sit or stand</a:t>
            </a:r>
            <a:endParaRPr b="0" lang="en-US" sz="2400" spc="-1" strike="noStrike">
              <a:solidFill>
                <a:srgbClr val="ffffff"/>
              </a:solidFill>
              <a:latin typeface="Arial"/>
            </a:endParaRPr>
          </a:p>
        </p:txBody>
      </p:sp>
      <p:sp>
        <p:nvSpPr>
          <p:cNvPr id="14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for 24 to 48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bra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ing core muscles (after inflammation subsid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 (analgesics, muscle relaxants, anti-inflammatories, and, in some cases, narc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partial or complete removal might be necessary in some cases)</a:t>
            </a:r>
            <a:endParaRPr b="0" lang="en-US" sz="2400" spc="-1" strike="noStrike">
              <a:solidFill>
                <a:srgbClr val="ffffff"/>
              </a:solidFill>
              <a:latin typeface="Arial"/>
            </a:endParaRPr>
          </a:p>
        </p:txBody>
      </p:sp>
      <p:sp>
        <p:nvSpPr>
          <p:cNvPr id="14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in located in the head that is not confined to any one specific nerve are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hysiologic cause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sion headache results from strain on facial, neck, and scalp muscle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cular headache is brought on when excess fluid in the blood vessels of the head causes the vessels to change in size.</a:t>
            </a:r>
            <a:endParaRPr b="0" lang="en-US" sz="2400" spc="-1" strike="noStrike">
              <a:solidFill>
                <a:srgbClr val="ffffff"/>
              </a:solidFill>
              <a:latin typeface="Arial"/>
            </a:endParaRPr>
          </a:p>
        </p:txBody>
      </p:sp>
      <p:sp>
        <p:nvSpPr>
          <p:cNvPr id="15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may vary from dull to severe, be constant or intermittent, and have a throbbing, pressure, or penetrating sens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ay signal an underlying disorder or disease (hypertension, stroke, brain tumor, or encephalitis) but in most cases does n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underlying cause is found, the typical 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relaxant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 tranquilizer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mass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m b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a:t>
            </a:r>
            <a:endParaRPr b="0" lang="en-US" sz="3600" spc="-1" strike="noStrike">
              <a:solidFill>
                <a:srgbClr val="ffff00"/>
              </a:solidFill>
              <a:latin typeface="Arial"/>
            </a:endParaRPr>
          </a:p>
        </p:txBody>
      </p:sp>
      <p:sp>
        <p:nvSpPr>
          <p:cNvPr id="15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evere headaches that may completely incapacitate the individual and are almost always accompanied by other sympto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ateral throbbing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auras (zigzagging lines, flashing ligh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nsitivity to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in a quiet, dark ro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therapy (vasoconstrictors) to constrict blood vessel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emetics (to control 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xation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feed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medical intervention within three hours of stroke may limit brain damage. I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ly chewing an aspir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coagulants (to prevent clotting of bloo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 to improve circulation and remove clot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a:t>
            </a:r>
            <a:endParaRPr b="0" lang="en-US" sz="3600" spc="-1" strike="noStrike">
              <a:solidFill>
                <a:srgbClr val="ffff00"/>
              </a:solidFill>
              <a:latin typeface="Arial"/>
            </a:endParaRPr>
          </a:p>
        </p:txBody>
      </p:sp>
      <p:sp>
        <p:nvSpPr>
          <p:cNvPr id="16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ronic brain disorder characterized by sudden episodes of abnormal intense electrical activity in the brain, which results in seizur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leptic seizures are classified as eith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seizure can involve motor movement, such a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ythmic tw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lsive lip smack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king at clot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 aura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nesia of the att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4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a:t>
            </a:r>
            <a:r>
              <a:rPr b="0" lang="en-US" sz="1600" spc="-1" strike="noStrike">
                <a:solidFill>
                  <a:srgbClr val="ffffff"/>
                </a:solidFill>
                <a:latin typeface="Arial"/>
              </a:rPr>
              <a:t>(cont’d.)</a:t>
            </a:r>
            <a:endParaRPr b="0" lang="en-US" sz="16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 seizure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ence attacks (also called petit mal): characterized by frequent but transient lapses of consciousness and only rare spasm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ic-clonic attacks (also called grand mal): severe form of epilepsy characterized by seizures involving spasms and loss of conscious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logic conditions associated with seizure include:</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r tissue on the cerebral cortex from infection or traum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mor of the cerebral cortex</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ebral edema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k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th trauma (cerebral palsy)</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oxicity (alcoholism)</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ive medica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rare) to remove a lesion in the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id for seizu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hion hea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sen tight neckwear.</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person to the sid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identification.</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anything in mouth.</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 person d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a:t>
            </a:r>
            <a:endParaRPr b="0" lang="en-US" sz="3600" spc="-1" strike="noStrike">
              <a:solidFill>
                <a:srgbClr val="ffff00"/>
              </a:solidFill>
              <a:latin typeface="Arial"/>
            </a:endParaRPr>
          </a:p>
        </p:txBody>
      </p:sp>
      <p:sp>
        <p:nvSpPr>
          <p:cNvPr id="17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lowly progressive neurologic disorder that is linked to decreased dopamine production in the brain and is characterized by tremor, weakness of resting muscles, and a shuffling ga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oped pos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uffling gai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 bowed, body flexed forward, prone to fall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ill-rolling” (tremor of the thumb and forefing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less facial featu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ffled speec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y swallow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ure known; managing symptoms onl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therapy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herapy </a:t>
            </a:r>
            <a:endParaRPr b="0" lang="en-US" sz="20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odopa and carbidopa (drugs the body converts to dopamine)</a:t>
            </a:r>
            <a:endParaRPr b="0" lang="en-US" sz="18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depressants</a:t>
            </a:r>
            <a:endParaRPr b="0" lang="en-US" sz="18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cholinergics (for tremor and rigid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a:t>
            </a:r>
            <a:endParaRPr b="0" lang="en-US" sz="3600" spc="-1" strike="noStrike">
              <a:solidFill>
                <a:srgbClr val="ffff00"/>
              </a:solidFill>
              <a:latin typeface="Arial"/>
            </a:endParaRPr>
          </a:p>
        </p:txBody>
      </p:sp>
      <p:sp>
        <p:nvSpPr>
          <p:cNvPr id="18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ereditary degenerative disease of the cerebral cortex and basal ganglia (mass of gray matter at the base of the cerebral hemisphere), which causes progressive atrophy of the b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risk factor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k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es in diet and alcohol consump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lood pressu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bet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musculoskeletal control (mild fidgeting to lip smack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ch difficult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ioration of emotional state (personality changes, moody behavior, loss of memory, paranoia, dement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no cure is known, treatment focuses on symptom control of erratic movement and agitation through drug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residential care could be necess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myotrophic Lateral Sclerosis</a:t>
            </a:r>
            <a:endParaRPr b="0" lang="en-US" sz="3600" spc="-1" strike="noStrike">
              <a:solidFill>
                <a:srgbClr val="ffff00"/>
              </a:solidFill>
              <a:latin typeface="Arial"/>
            </a:endParaRPr>
          </a:p>
        </p:txBody>
      </p:sp>
      <p:sp>
        <p:nvSpPr>
          <p:cNvPr id="18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Lou Gehrig disease, a progressive motor neuron disease that results in motor atrop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yotrophic Lateral Scler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small, involuntary contractions (fasciculations) of the forearms and han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disease progresses, muscle atrophy sets in and creates difficulties with:</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llow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w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th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yotrophic Lateral Scler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no cure is known, treatment is directed at controlling symptoms through drug therapy, maintaining pulmonary function, and providing supportive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a:t>
            </a:r>
            <a:endParaRPr b="0" lang="en-US" sz="3600" spc="-1" strike="noStrike">
              <a:solidFill>
                <a:srgbClr val="ffff00"/>
              </a:solidFill>
              <a:latin typeface="Arial"/>
            </a:endParaRPr>
          </a:p>
        </p:txBody>
      </p:sp>
      <p:sp>
        <p:nvSpPr>
          <p:cNvPr id="19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orary amnesia of short duration (several hours) that is marked by sudden onset, loss of recent memories, and an inability to form new memo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5" name="PlaceHolder 2"/>
          <p:cNvSpPr>
            <a:spLocks noGrp="1"/>
          </p:cNvSpPr>
          <p:nvPr>
            <p:ph/>
          </p:nvPr>
        </p:nvSpPr>
        <p:spPr>
          <a:xfrm>
            <a:off x="757080" y="1464840"/>
            <a:ext cx="7629840" cy="4049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onset of memory loss (includes current and recent events but not self-ident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titive questioning (Where am I?,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recollection of events of past few hours or possibly days when amnesia period e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is uncert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cted link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ss or emotional eve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ing or immersion in cold wa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migraine headache</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is good; recurrence very un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200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13</a:t>
            </a:r>
            <a:br>
              <a:rPr sz="3200"/>
            </a:br>
            <a:r>
              <a:rPr b="0" lang="en-US" sz="2800" spc="-1" strike="noStrike">
                <a:solidFill>
                  <a:srgbClr val="ffff00"/>
                </a:solidFill>
                <a:latin typeface="Arial"/>
              </a:rPr>
              <a:t>Lesson 13.3</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eneration of the peripheral nerves that extend to the extremities, leading to muscle weakness and sensory loss</a:t>
            </a:r>
            <a:endParaRPr b="0" lang="en-US" sz="2800" spc="-1" strike="noStrike">
              <a:solidFill>
                <a:srgbClr val="ffffff"/>
              </a:solidFill>
              <a:latin typeface="Arial"/>
            </a:endParaRPr>
          </a:p>
        </p:txBody>
      </p:sp>
      <p:sp>
        <p:nvSpPr>
          <p:cNvPr id="20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ipheral Nerve Disorders: </a:t>
            </a:r>
            <a:br>
              <a:rPr sz="3200"/>
            </a:br>
            <a:r>
              <a:rPr b="0" lang="en-US" sz="3200" spc="-1" strike="noStrike">
                <a:solidFill>
                  <a:srgbClr val="ffff00"/>
                </a:solidFill>
                <a:latin typeface="Arial"/>
              </a:rPr>
              <a:t>Peripheral Neurit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ent ischemic attacks (TIAs) are temporary episodes of impaired neurologic functioning caused by an inadequate flow of blood to a portion of the b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caused by:</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alcohol use</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mumps, pneumonia, diphtheria)</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xicity from various substances (arsenic, lead, etc.)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c or inflammatory diseases (diabetes, rheumatoid arthritis, gout, lupu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ficiency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ms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sensation in hands and fee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ting of muscle to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ssy or red appearance to sk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swea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foot dro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minate exposure to toxic substanc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any nutritional deficienc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underlying disea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alcohol consumption (if applicab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originates from fifth cranial nerve, also called the trigeminal nerv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have no identified cause, but occasionally the condition is related to tumor, compression of a nerve, multiple sclerosis, or shingles.</a:t>
            </a:r>
            <a:endParaRPr b="0" lang="en-US" sz="2800" spc="-1" strike="noStrike">
              <a:solidFill>
                <a:srgbClr val="ffffff"/>
              </a:solidFill>
              <a:latin typeface="Arial"/>
            </a:endParaRPr>
          </a:p>
        </p:txBody>
      </p:sp>
      <p:sp>
        <p:nvSpPr>
          <p:cNvPr id="20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1" descr="W0256-13-20"/>
          <p:cNvPicPr/>
          <p:nvPr/>
        </p:nvPicPr>
        <p:blipFill>
          <a:blip r:embed="rId1"/>
          <a:stretch/>
        </p:blipFill>
        <p:spPr>
          <a:xfrm>
            <a:off x="1954080" y="1465200"/>
            <a:ext cx="5232600" cy="4454640"/>
          </a:xfrm>
          <a:prstGeom prst="rect">
            <a:avLst/>
          </a:prstGeom>
          <a:ln w="0">
            <a:noFill/>
          </a:ln>
        </p:spPr>
      </p:pic>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onset of excruciating pain that may affect one or more nerve branch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hthalmic branch: causes pain in the eye and forehea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llary branch: involves the nose, upper lip, and cheek</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ibular branch: affects lower lip and outer portion of the tongue and cheek near the ear</a:t>
            </a:r>
            <a:endParaRPr b="0" lang="en-US" sz="2000" spc="-1" strike="noStrike">
              <a:solidFill>
                <a:srgbClr val="ffffff"/>
              </a:solidFill>
              <a:latin typeface="Arial"/>
            </a:endParaRPr>
          </a:p>
        </p:txBody>
      </p:sp>
      <p:sp>
        <p:nvSpPr>
          <p:cNvPr id="21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for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might be necessary to dissect nerve roo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sation of smoking (if applicable)</a:t>
            </a:r>
            <a:endParaRPr b="0" lang="en-US" sz="2400" spc="-1" strike="noStrike">
              <a:solidFill>
                <a:srgbClr val="ffffff"/>
              </a:solidFill>
              <a:latin typeface="Arial"/>
            </a:endParaRPr>
          </a:p>
        </p:txBody>
      </p:sp>
      <p:sp>
        <p:nvSpPr>
          <p:cNvPr id="21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a:t>
            </a:r>
            <a:endParaRPr b="0" lang="en-US" sz="3600" spc="-1" strike="noStrike">
              <a:solidFill>
                <a:srgbClr val="ffff00"/>
              </a:solidFill>
              <a:latin typeface="Arial"/>
            </a:endParaRPr>
          </a:p>
        </p:txBody>
      </p:sp>
      <p:sp>
        <p:nvSpPr>
          <p:cNvPr id="21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order of the facial nerve that causes a sudden onset of weakness or paralysis of facial muscl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result from blockage of impulses from the facial nerve caused by compression of the ner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1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usually unilateral)</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or drawing sensation behind the ear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open or close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oping of mou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oling of saliv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orted facial ex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2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moist gentle hea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al exerci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nisone (synthetic steroid) to reduce edema of facial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therapy to stimulate nerves and prevent atrophy of musc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weakness or numbness down one side of body (hemipare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phag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nd </a:t>
            </a:r>
            <a:br>
              <a:rPr sz="3200"/>
            </a:br>
            <a:r>
              <a:rPr b="0" lang="en-US" sz="3200" spc="-1" strike="noStrike">
                <a:solidFill>
                  <a:srgbClr val="ffff00"/>
                </a:solidFill>
                <a:latin typeface="Arial"/>
              </a:rPr>
              <a:t>Bell Palsy – Compare/Contrast</a:t>
            </a:r>
            <a:endParaRPr b="0" lang="en-US" sz="3200" spc="-1" strike="noStrike">
              <a:solidFill>
                <a:srgbClr val="ffff00"/>
              </a:solidFill>
              <a:latin typeface="Arial"/>
            </a:endParaRPr>
          </a:p>
        </p:txBody>
      </p:sp>
      <p:sp>
        <p:nvSpPr>
          <p:cNvPr id="222" name="PlaceHolder 2"/>
          <p:cNvSpPr>
            <a:spLocks noGrp="1"/>
          </p:cNvSpPr>
          <p:nvPr>
            <p:ph/>
          </p:nvPr>
        </p:nvSpPr>
        <p:spPr>
          <a:xfrm>
            <a:off x="2052360" y="1614600"/>
            <a:ext cx="6405480" cy="1350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ities</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caused by disorder of facial nerve</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dden onset</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lateral</a:t>
            </a:r>
            <a:endParaRPr b="0" lang="en-US" sz="1800" spc="-1" strike="noStrike">
              <a:solidFill>
                <a:srgbClr val="ffffff"/>
              </a:solidFill>
              <a:latin typeface="Arial"/>
            </a:endParaRPr>
          </a:p>
        </p:txBody>
      </p:sp>
      <p:sp>
        <p:nvSpPr>
          <p:cNvPr id="223" name="PlaceHolder 3"/>
          <p:cNvSpPr>
            <a:spLocks noGrp="1"/>
          </p:cNvSpPr>
          <p:nvPr>
            <p:ph/>
          </p:nvPr>
        </p:nvSpPr>
        <p:spPr>
          <a:xfrm>
            <a:off x="5148000" y="3490560"/>
            <a:ext cx="3181320" cy="1949400"/>
          </a:xfrm>
          <a:prstGeom prst="rect">
            <a:avLst/>
          </a:prstGeom>
          <a:noFill/>
          <a:ln w="0">
            <a:noFill/>
          </a:ln>
        </p:spPr>
        <p:txBody>
          <a:bodyPr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Palsy</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dden paralysis </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function impaired</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nosis is good if treated early</a:t>
            </a:r>
            <a:endParaRPr b="0" lang="en-US" sz="1800" spc="-1" strike="noStrike">
              <a:solidFill>
                <a:srgbClr val="ffffff"/>
              </a:solidFill>
              <a:latin typeface="Arial"/>
            </a:endParaRPr>
          </a:p>
        </p:txBody>
      </p:sp>
      <p:sp>
        <p:nvSpPr>
          <p:cNvPr id="224" name="Rectangle 9"/>
          <p:cNvSpPr/>
          <p:nvPr/>
        </p:nvSpPr>
        <p:spPr>
          <a:xfrm>
            <a:off x="1905120" y="3276720"/>
            <a:ext cx="3216240" cy="2743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ces</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eminal</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eme pain </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tor function impairment</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nosis va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mmation of the meninges, the membranous coverings of the brain, and the spinal cord</a:t>
            </a:r>
            <a:endParaRPr b="0" lang="en-US" sz="2800" spc="-1" strike="noStrike">
              <a:solidFill>
                <a:srgbClr val="ffffff"/>
              </a:solidFill>
              <a:latin typeface="Arial"/>
            </a:endParaRPr>
          </a:p>
        </p:txBody>
      </p:sp>
      <p:sp>
        <p:nvSpPr>
          <p:cNvPr id="22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523520"/>
            <a:ext cx="8229600" cy="441972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that increases in intensity with movement or shaking of hea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k stiffness (nuchal rigid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ws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ta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nsitivity to light (photophob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sensitivity of the skin</a:t>
            </a:r>
            <a:endParaRPr b="0" lang="en-US" sz="2400" spc="-1" strike="noStrike">
              <a:solidFill>
                <a:srgbClr val="ffffff"/>
              </a:solidFill>
              <a:latin typeface="Arial"/>
            </a:endParaRPr>
          </a:p>
        </p:txBody>
      </p:sp>
      <p:sp>
        <p:nvSpPr>
          <p:cNvPr id="22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 lumbar puncture to determine if cerebrospinal fluid (CSF) has increased levels of white blood cells, protein, and gluco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o, resulting growth of microbes in cultured CSF confirms diagnosis</a:t>
            </a:r>
            <a:endParaRPr b="0" lang="en-US" sz="2400" spc="-1" strike="noStrike">
              <a:solidFill>
                <a:srgbClr val="ffffff"/>
              </a:solidFill>
              <a:latin typeface="Arial"/>
            </a:endParaRPr>
          </a:p>
        </p:txBody>
      </p:sp>
      <p:sp>
        <p:nvSpPr>
          <p:cNvPr id="23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ssive antibiotic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ive drugs to control seizure activ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irin or acetaminophen for 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k and quiet environment</a:t>
            </a:r>
            <a:endParaRPr b="0" lang="en-US" sz="2400" spc="-1" strike="noStrike">
              <a:solidFill>
                <a:srgbClr val="ffffff"/>
              </a:solidFill>
              <a:latin typeface="Arial"/>
            </a:endParaRPr>
          </a:p>
        </p:txBody>
      </p:sp>
      <p:sp>
        <p:nvSpPr>
          <p:cNvPr id="23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a:t>
            </a:r>
            <a:endParaRPr b="0" lang="en-US" sz="3600" spc="-1" strike="noStrike">
              <a:solidFill>
                <a:srgbClr val="ffff00"/>
              </a:solidFill>
              <a:latin typeface="Arial"/>
            </a:endParaRPr>
          </a:p>
        </p:txBody>
      </p:sp>
      <p:sp>
        <p:nvSpPr>
          <p:cNvPr id="23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ephalitis is an inflammation of the brain that leads to cerebral edema and subsequent cell destru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are the result of a bite from an infected mosquito.</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caused by viruses or the toxins from chickenpox, measles, or mum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3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body tempera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k and back stiff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weak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les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harg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confusion that may progress to disorientation and even to c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3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es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ospinal fluid samp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E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viral agents effective against herpes simplex encephal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wis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d analgesics for pa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convulsiv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any present infe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a:t>
            </a:r>
            <a:endParaRPr b="0" lang="en-US" sz="3600" spc="-1" strike="noStrike">
              <a:solidFill>
                <a:srgbClr val="ffff00"/>
              </a:solidFill>
              <a:latin typeface="Arial"/>
            </a:endParaRPr>
          </a:p>
        </p:txBody>
      </p:sp>
      <p:sp>
        <p:nvSpPr>
          <p:cNvPr id="24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ute, rapidly progressive disease of the spinal nerv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dition is thought to have an autoimmune basis and has been known to follow a respiratory infection or gastroenterit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and phys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nial MRI sc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E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ngling and numbness of feet and hands at onset of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muscle pain and tender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ive muscle weaknes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ys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y swallow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equired for observ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plasma washed to remove antibodies (called plasmapheresis) and speed reco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a:t>
            </a:r>
            <a:endParaRPr b="0" lang="en-US" sz="3600" spc="-1" strike="noStrike">
              <a:solidFill>
                <a:srgbClr val="ffff00"/>
              </a:solidFill>
              <a:latin typeface="Arial"/>
            </a:endParaRPr>
          </a:p>
        </p:txBody>
      </p:sp>
      <p:sp>
        <p:nvSpPr>
          <p:cNvPr id="24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pus anywhere in the brain tissu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caused by a local infection or secondary infections elsewhere in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5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ime sympt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ymptoms depend on location and extent of abscess, amount of cranial pressure, and can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disturbance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qual pupil size (anisocoria)</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zu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5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venous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nitol or steroids to reduce cerebral edem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drainage of abscess to reliev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85800" y="1614240"/>
            <a:ext cx="7772400" cy="4305240"/>
          </a:xfrm>
          <a:prstGeom prst="rect">
            <a:avLst/>
          </a:prstGeom>
          <a:noFill/>
          <a:ln w="0">
            <a:noFill/>
          </a:ln>
        </p:spPr>
        <p:txBody>
          <a:bodyPr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omyelitis is a viral infection of the gray matter of the spinal cord that causes a selective destruction of the motor neurons.</a:t>
            </a:r>
            <a:endParaRPr b="0" lang="en-US" sz="24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polio syndrome is a condition affecting poliomyelitis patients several decades after the initial attack, characterized by fatigue, muscular deterioration, pain in the joints, and respiratory problem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5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grade feve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use discharge from nos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is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ymptoms are followed by:</a:t>
            </a:r>
            <a:endParaRPr b="0" lang="en-US" sz="20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cle weakness</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ff neck</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usea and vomiting</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rophy of muscles</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cle and joint deterioration</a:t>
            </a:r>
            <a:endParaRPr b="0" lang="en-US" sz="1800" spc="-1" strike="noStrike">
              <a:solidFill>
                <a:srgbClr val="ffffff"/>
              </a:solidFill>
              <a:latin typeface="Arial"/>
            </a:endParaRPr>
          </a:p>
        </p:txBody>
      </p:sp>
      <p:sp>
        <p:nvSpPr>
          <p:cNvPr id="25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heat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 brac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ventilation</a:t>
            </a:r>
            <a:endParaRPr b="0" lang="en-US" sz="2400" spc="-1" strike="noStrike">
              <a:solidFill>
                <a:srgbClr val="ffffff"/>
              </a:solidFill>
              <a:latin typeface="Arial"/>
            </a:endParaRPr>
          </a:p>
        </p:txBody>
      </p:sp>
      <p:sp>
        <p:nvSpPr>
          <p:cNvPr id="25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umors can be primary (originate in the brain itself) or secondary (cancer that has metastasized from another area of the body).</a:t>
            </a:r>
            <a:endParaRPr b="0" lang="en-US" sz="2800" spc="-1" strike="noStrike">
              <a:solidFill>
                <a:srgbClr val="ffffff"/>
              </a:solidFill>
              <a:latin typeface="Arial"/>
            </a:endParaRPr>
          </a:p>
        </p:txBody>
      </p:sp>
      <p:sp>
        <p:nvSpPr>
          <p:cNvPr id="26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result from a displacement and compression of normal brain tissue by the tumor and includ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ache (usually dull, constant, and worse at night or in the morning)</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zure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consciousnes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nitive dysfunction (memory problems and personality changes)</a:t>
            </a:r>
            <a:endParaRPr b="0" lang="en-US" sz="2000" spc="-1" strike="noStrike">
              <a:solidFill>
                <a:srgbClr val="ffffff"/>
              </a:solidFill>
              <a:latin typeface="Arial"/>
            </a:endParaRPr>
          </a:p>
        </p:txBody>
      </p:sp>
      <p:sp>
        <p:nvSpPr>
          <p:cNvPr id="26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irin (as soon as symptoms app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 (if needed to increase blood flow to the affected area)</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histo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ic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imaging studi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nial MRI (preferred op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MRI</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ssue sample (from surgery or biopsy)</a:t>
            </a:r>
            <a:endParaRPr b="0" lang="en-US" sz="2400" spc="-1" strike="noStrike">
              <a:solidFill>
                <a:srgbClr val="ffffff"/>
              </a:solidFill>
              <a:latin typeface="Arial"/>
            </a:endParaRPr>
          </a:p>
        </p:txBody>
      </p:sp>
      <p:sp>
        <p:nvSpPr>
          <p:cNvPr id="26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 primary tum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and malignant tumors often treated similar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 to treat seizu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ticosteroids to help decrease intracranial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nts to prevent blood clotting</a:t>
            </a:r>
            <a:endParaRPr b="0" lang="en-US" sz="2400" spc="-1" strike="noStrike">
              <a:solidFill>
                <a:srgbClr val="ffffff"/>
              </a:solidFill>
              <a:latin typeface="Arial"/>
            </a:endParaRPr>
          </a:p>
        </p:txBody>
      </p:sp>
      <p:sp>
        <p:nvSpPr>
          <p:cNvPr id="26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 secondary tum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s on relief of neurological symptoms and long-term tumor contr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solitary brain lesions and no other sites of metastasis undergo:</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le brain radiation therapy</a:t>
            </a:r>
            <a:endParaRPr b="0" lang="en-US" sz="2000" spc="-1" strike="noStrike">
              <a:solidFill>
                <a:srgbClr val="ffffff"/>
              </a:solidFill>
              <a:latin typeface="Arial"/>
            </a:endParaRPr>
          </a:p>
        </p:txBody>
      </p:sp>
      <p:sp>
        <p:nvSpPr>
          <p:cNvPr id="26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ve-year survival rate for all types of brain tumors combined is 32%, which is among the lowest for all types of cancer.</a:t>
            </a:r>
            <a:endParaRPr b="0" lang="en-US" sz="2400" spc="-1" strike="noStrike">
              <a:solidFill>
                <a:srgbClr val="ffffff"/>
              </a:solidFill>
              <a:latin typeface="Arial"/>
            </a:endParaRPr>
          </a:p>
        </p:txBody>
      </p:sp>
      <p:sp>
        <p:nvSpPr>
          <p:cNvPr id="27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16:24:13Z</dcterms:created>
  <dc:creator>Gary Gilles</dc:creator>
  <dc:description/>
  <dc:language>en-US</dc:language>
  <cp:lastModifiedBy>Student</cp:lastModifiedBy>
  <cp:lastPrinted>2005-01-20T14:01:04Z</cp:lastPrinted>
  <dcterms:modified xsi:type="dcterms:W3CDTF">2011-06-16T21:58:56Z</dcterms:modified>
  <cp:revision>131</cp:revision>
  <dc:subject/>
  <dc:title>Slide 1</dc:title>
</cp:coreProperties>
</file>